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6A3-29ED-4D54-A855-2696C8AD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66D-B7CF-41C2-8828-0BA6F9BA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79D-1042-458F-8B26-D88997AB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B02-ABEE-4F93-BE96-AB35A63F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8A0-2582-4715-BA2A-EBC345E2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2C98-F695-475F-98C2-6CFB84B7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573-1F55-4371-9323-A5B1FF71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34D4-4B4F-4F98-8B29-8BDD6FAD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9763-1BD1-4DC6-A3C7-9F6AE3BB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3FFE-1AC5-44D2-8E81-1CD131A9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BE4-D8EC-41EC-AC46-D017F1A2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DA2-5A1A-4852-9333-664A5472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74E2-F8DB-40BF-A318-84F683F5E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iv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17524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Ali Baba Bernstein’s Sweet 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427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024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904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190512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21520" y="19051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32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213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1905120"/>
            <a:ext cx="7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27306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98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306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50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940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38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41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4520" y="20574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28447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524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43360" y="1949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57760" y="1949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19520" y="1949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57600" y="1949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17985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0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306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90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3080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92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057400"/>
            <a:ext cx="3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680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48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647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89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410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2057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5844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25750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040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05740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83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20574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220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06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60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41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72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84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58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363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25923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2590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3720" y="20574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9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93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552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76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057400"/>
            <a:ext cx="5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2057400"/>
            <a:ext cx="3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32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2172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1520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3960" y="2025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53800" y="2025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743200" y="3276720"/>
            <a:ext cx="284472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52640" y="202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67040" y="2025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05480" y="2025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43560" y="2025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81640" y="2025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20080" y="2025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58160" y="2025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48520" y="202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72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86960" y="2025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1949400" cy="2611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19051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268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207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28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7280" y="20574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572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38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188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99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24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58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0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34680" y="2025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72400" y="202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00400" y="3048120"/>
            <a:ext cx="18604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4:57:18Z</dcterms:created>
  <dc:creator>New User</dc:creator>
  <dc:description/>
  <dc:language>en-US</dc:language>
  <cp:lastModifiedBy>Rutherford County Schools</cp:lastModifiedBy>
  <dcterms:modified xsi:type="dcterms:W3CDTF">2007-04-22T18:53:07Z</dcterms:modified>
  <cp:revision>12</cp:revision>
  <dc:subject/>
  <dc:title>Rivet</dc:title>
</cp:coreProperties>
</file>